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gif" ContentType="image/gif"/>
  <Override PartName="/ppt/media/image3.jpeg" ContentType="image/jpeg"/>
  <Override PartName="/ppt/media/image17.jpeg" ContentType="image/jpeg"/>
  <Override PartName="/ppt/media/image10.gif" ContentType="image/gif"/>
  <Override PartName="/ppt/media/image15.jpeg" ContentType="image/jpeg"/>
  <Override PartName="/ppt/media/image2.gif" ContentType="image/gif"/>
  <Override PartName="/ppt/media/image5.wmf" ContentType="image/x-wmf"/>
  <Override PartName="/ppt/media/image7.jpeg" ContentType="image/jpeg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9.jpeg" ContentType="image/jpeg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286B-D8F8-46BC-AC9C-6A61999C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305D-9D68-4023-B4A0-B71E79067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B.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701-34FD-45CA-8422-79249061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3DB-3312-4E30-B1AB-3047339F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5E9-FDAD-4BF0-8A5C-2F1B3BFB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555-4E93-4F97-BEF0-21EF453A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7A55-50B0-45D6-BD96-97B44575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0DBE-42D1-41D8-8343-4D01F4F3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42EF-F08B-4C72-BA1D-AFEE024A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17AA-B121-4C24-B59D-0DB0852F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AE84-0B07-46A6-B961-99074247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6079-3744-4081-9A18-F737FB9E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9C64-E182-4F1F-8A8F-F780AA02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471-19E3-42E5-A0FC-51355B26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FF5B-F1A7-4EF1-954A-54BC2131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0FDC-2B8A-4A9B-BB33-F646AF2C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C41F-AE22-4B9E-9E3D-91FC4E1A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A8AE-A114-453B-8215-5A1ADCDC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0AD2-101A-4BD1-A418-FFA594ED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FA8-61DA-49CF-8E16-1F052A68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DD0-0DA3-49FD-95B3-A6C0146F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58E-47FF-4788-92F9-22D41960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42F-5D8C-4706-BFB9-E0F61095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229-A066-47E0-A999-49F3347C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566-759F-410E-9DD0-432711E7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680-4A5A-4D68-A2EF-64110B3D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7AFA-8B25-4629-A812-EEB06C0EFF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976D-04EF-45F3-A663-D6343208FC0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jJuN9Qfr0I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sychology’s Perspec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600200" y="2438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ig Sev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7_md_clr"/>
          <p:cNvPicPr/>
          <p:nvPr/>
        </p:nvPicPr>
        <p:blipFill>
          <a:blip r:embed="rId1"/>
          <a:stretch/>
        </p:blipFill>
        <p:spPr>
          <a:xfrm>
            <a:off x="3916440" y="3951360"/>
            <a:ext cx="159228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pproaches cont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MANISTIC PSYCH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ople try to achieve their maximum potential (self actualiz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 health and self-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mp2"/>
          <p:cNvPicPr/>
          <p:nvPr/>
        </p:nvPicPr>
        <p:blipFill>
          <a:blip r:embed="rId1"/>
          <a:stretch/>
        </p:blipFill>
        <p:spPr>
          <a:xfrm>
            <a:off x="5743440" y="4105440"/>
            <a:ext cx="3400560" cy="27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maslow"/>
          <p:cNvPicPr/>
          <p:nvPr/>
        </p:nvPicPr>
        <p:blipFill>
          <a:blip r:embed="rId2"/>
          <a:stretch/>
        </p:blipFill>
        <p:spPr>
          <a:xfrm>
            <a:off x="6781680" y="1066680"/>
            <a:ext cx="2152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at Approach is Best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697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perspectives should we consider throughout this cla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CLEC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bination of approa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opics/issues have become dominated by a certain approach, so this will lead our thinking, but all should be in our consider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pply Perspectives to Case Study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 -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ndrea Y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pplications – test anxiety, aut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uroscience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6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how the physical body and brain creates our emotions, memories and sensory experie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914400" y="3657600"/>
            <a:ext cx="46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could not remember the names of your parents and  went to a psychologist who adheres to the neuroscience perspective, what might they sa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7" descr="http://www.sixthman.net/blog/wp-content/uploads/2009/05/brain-763982-11.jpg"/>
          <p:cNvPicPr/>
          <p:nvPr/>
        </p:nvPicPr>
        <p:blipFill>
          <a:blip r:embed="rId1"/>
          <a:stretch/>
        </p:blipFill>
        <p:spPr>
          <a:xfrm>
            <a:off x="5638680" y="3505320"/>
            <a:ext cx="312588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6479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ocuses on Darwinism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 behave the way we do because we inherited those behavior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us, those behaviors must have helped ensure our ancestors survival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ther nature practicing selective breed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homer4"/>
          <p:cNvPicPr/>
          <p:nvPr/>
        </p:nvPicPr>
        <p:blipFill>
          <a:blip r:embed="rId1"/>
          <a:stretch/>
        </p:blipFill>
        <p:spPr>
          <a:xfrm>
            <a:off x="5334120" y="2841480"/>
            <a:ext cx="3492360" cy="2394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5486400" y="5305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ould this behavior ensured Homer’s ancestors surviv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sychodynamic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1940040" y="1905120"/>
          <a:ext cx="192384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905120"/>
                    <a:ext cx="192384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thered by Sigmund Fre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r behavior comes from unconscious driv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ually stemming from our childho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coach_hg_clr"/>
          <p:cNvPicPr/>
          <p:nvPr/>
        </p:nvPicPr>
        <p:blipFill>
          <a:blip r:embed="rId3"/>
          <a:stretch/>
        </p:blipFill>
        <p:spPr>
          <a:xfrm>
            <a:off x="1363680" y="2398680"/>
            <a:ext cx="2928960" cy="27511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457200" y="51814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might a psychoanalyst say is the reason someone always needs to be chewing gu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ehavioral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cuses on our OBSERVABLE behavio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 cares about the behaviors that impair our living, and attempts to change th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4" descr="fingernails"/>
          <p:cNvPicPr/>
          <p:nvPr/>
        </p:nvPicPr>
        <p:blipFill>
          <a:blip r:embed="rId1"/>
          <a:stretch/>
        </p:blipFill>
        <p:spPr>
          <a:xfrm>
            <a:off x="4724280" y="1066680"/>
            <a:ext cx="3781440" cy="38102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4876920" y="49528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bit your fingernails when you were nervous, a behaviorist would not focus on calming you down, but rather focus on how to stop you from biting your nai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3366"/>
                </a:solidFill>
                <a:uFillTx/>
                <a:latin typeface="Verdana"/>
              </a:rPr>
              <a:t>BEHAVIORIS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people lea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wards and punish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watson"/>
          <p:cNvPicPr/>
          <p:nvPr/>
        </p:nvPicPr>
        <p:blipFill>
          <a:blip r:embed="rId1"/>
          <a:stretch/>
        </p:blipFill>
        <p:spPr>
          <a:xfrm>
            <a:off x="1371600" y="3505320"/>
            <a:ext cx="1741320" cy="2417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43240" y="4071960"/>
            <a:ext cx="397980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12" descr="3781b"/>
          <p:cNvPicPr/>
          <p:nvPr/>
        </p:nvPicPr>
        <p:blipFill>
          <a:blip r:embed="rId2"/>
          <a:stretch/>
        </p:blipFill>
        <p:spPr>
          <a:xfrm>
            <a:off x="4724280" y="1143000"/>
            <a:ext cx="3543480" cy="54198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1143000" y="6095880"/>
            <a:ext cx="250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B. Wat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gnitive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es on how we think (or encode inform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we see the worl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id we learn to act to sad or happy event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gnitive Therapist attempt to change the way you thin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ollege_student_talking_to_girl_at_party_hg_clr"/>
          <p:cNvPicPr/>
          <p:nvPr/>
        </p:nvPicPr>
        <p:blipFill>
          <a:blip r:embed="rId1"/>
          <a:stretch/>
        </p:blipFill>
        <p:spPr>
          <a:xfrm>
            <a:off x="4800600" y="990720"/>
            <a:ext cx="1824120" cy="2185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ollege_kid_rejected_hg_clr"/>
          <p:cNvPicPr/>
          <p:nvPr/>
        </p:nvPicPr>
        <p:blipFill>
          <a:blip r:embed="rId2"/>
          <a:stretch/>
        </p:blipFill>
        <p:spPr>
          <a:xfrm>
            <a:off x="6956280" y="990720"/>
            <a:ext cx="2187720" cy="2187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eart_head_sad_hg_clr"/>
          <p:cNvPicPr/>
          <p:nvPr/>
        </p:nvPicPr>
        <p:blipFill>
          <a:blip r:embed="rId3"/>
          <a:stretch/>
        </p:blipFill>
        <p:spPr>
          <a:xfrm>
            <a:off x="6629400" y="4038480"/>
            <a:ext cx="2514600" cy="228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heart_head_wink_hg_clr"/>
          <p:cNvPicPr/>
          <p:nvPr/>
        </p:nvPicPr>
        <p:blipFill>
          <a:blip r:embed="rId4"/>
          <a:stretch/>
        </p:blipFill>
        <p:spPr>
          <a:xfrm>
            <a:off x="4495680" y="4114800"/>
            <a:ext cx="2133720" cy="19382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4724280" y="32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et gir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85800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 Rejected by gir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7010280" y="6019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d you learn to be depres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4343400" y="6019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 get back on the ho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cial-Cultural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cus on how your culture effects your behavio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BreakfastClubBigPic"/>
          <p:cNvPicPr/>
          <p:nvPr/>
        </p:nvPicPr>
        <p:blipFill>
          <a:blip r:embed="rId1"/>
          <a:stretch/>
        </p:blipFill>
        <p:spPr>
          <a:xfrm>
            <a:off x="380880" y="3124080"/>
            <a:ext cx="5410440" cy="3538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6477120" y="2708280"/>
            <a:ext cx="2666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in the same high school, behaviors can change in accordance to the various subcultu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umanistic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cuses on positive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empt to seek self-actual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apists use active listening and unconditional positive regar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rogers"/>
          <p:cNvPicPr/>
          <p:nvPr/>
        </p:nvPicPr>
        <p:blipFill>
          <a:blip r:embed="rId1"/>
          <a:stretch/>
        </p:blipFill>
        <p:spPr>
          <a:xfrm>
            <a:off x="1600200" y="4191120"/>
            <a:ext cx="1749600" cy="24764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3733920" y="4419720"/>
            <a:ext cx="3520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Rogers would have made a great Humanistic Therapist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8:54Z</dcterms:created>
  <dc:creator>jstoverink</dc:creator>
  <dc:description/>
  <dc:language>en-US</dc:language>
  <cp:lastModifiedBy>Stephanie Hein Phillips</cp:lastModifiedBy>
  <dcterms:modified xsi:type="dcterms:W3CDTF">2013-10-22T17:47:53Z</dcterms:modified>
  <cp:revision>20</cp:revision>
  <dc:subject/>
  <dc:title>PSYCHOLOGY</dc:title>
</cp:coreProperties>
</file>